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9B7-4D92-42B2-B32B-D1A0909E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9EF-9841-4A37-A183-9E5B0086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E30-6D91-430D-81CC-3D9428B3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26B-B46C-490B-831E-EE66850E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782-B571-4641-9C0F-2282768D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C49-EEE8-4BB0-A353-57D4314C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819-A44A-4D29-97CB-7CDEE06C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0DA-3129-4963-84B1-3CE6D5CD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06E-6B58-4158-B36C-46170861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5DE-8409-4989-86B3-8320C3D1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491-8C2C-4F2E-AEFB-E914D3CD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C86-7163-4F08-B57F-F6FF1B48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707F-41C0-48D9-944F-9579A94874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30120"/>
          <a:ext cx="8859960" cy="6426360"/>
        </p:xfrm>
        <a:graphic>
          <a:graphicData uri="http://schemas.openxmlformats.org/drawingml/2006/table">
            <a:tbl>
              <a:tblPr/>
              <a:tblGrid>
                <a:gridCol w="1300320"/>
                <a:gridCol w="904680"/>
                <a:gridCol w="208080"/>
                <a:gridCol w="769680"/>
                <a:gridCol w="1135080"/>
                <a:gridCol w="1301760"/>
                <a:gridCol w="862200"/>
                <a:gridCol w="733320"/>
                <a:gridCol w="208080"/>
                <a:gridCol w="1436760"/>
              </a:tblGrid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 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年月（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XX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必填，底色无限。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民 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汉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 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 生 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入 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作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身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务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业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职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资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助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话号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身  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6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  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婚姻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未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离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特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" indent="-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打篮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日制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除高中学历外，其他的学历均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职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原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日期格式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6.09—2010.0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每条简历不需要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.”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等序号标注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从大中专教育经历开始写起，高中毕业的从参加工作开始写起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每条记录须保持时间连续性，不可有间断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工作期间参加了再教育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.09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行政管理专业大专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科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研究生班学习并毕业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当条工作经历期间另有工作记录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4.03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借调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工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跟班学习等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工作单位须写全称，或规范性简称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62"/>
          <p:cNvSpPr/>
          <p:nvPr/>
        </p:nvSpPr>
        <p:spPr>
          <a:xfrm>
            <a:off x="179280" y="-19080"/>
            <a:ext cx="883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个人基本情况表（本人保证以下填写资料真实，无弄虚作假。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6560" y="692280"/>
          <a:ext cx="8196120" cy="5406840"/>
        </p:xfrm>
        <a:graphic>
          <a:graphicData uri="http://schemas.openxmlformats.org/drawingml/2006/table">
            <a:tbl>
              <a:tblPr/>
              <a:tblGrid>
                <a:gridCol w="636480"/>
                <a:gridCol w="706680"/>
                <a:gridCol w="946080"/>
                <a:gridCol w="1039680"/>
                <a:gridCol w="996840"/>
                <a:gridCol w="1055880"/>
                <a:gridCol w="2814480"/>
              </a:tblGrid>
              <a:tr h="304920">
                <a:tc row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情况（及在仲恺区工作的重要社会关系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关 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面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（学习）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丈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妻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8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在什么单位任职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儿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女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学龄前儿童（如已上学，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校学生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父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原工作单位及职务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退休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故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母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博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服装个体经营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父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公司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婆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龙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地址家庭主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哥哥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姐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村务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叔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7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局局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住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请填写目前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居住地址，如：惠州市惠城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街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号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1:12:52Z</dcterms:created>
  <dc:creator>Tian</dc:creator>
  <dc:description/>
  <dc:language>en-US</dc:language>
  <cp:lastModifiedBy>Administrator</cp:lastModifiedBy>
  <dcterms:modified xsi:type="dcterms:W3CDTF">2019-11-20T07:56:25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