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280-6638-4272-B506-1696E1EF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4D4-2787-4DD6-9A52-64475A23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14C-3D5B-44DF-929D-50B3841F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377-86C0-4BE4-BCAA-62073AE0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235-CED6-418C-B4CA-A66A12E1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EC4-688A-41A4-9F7E-1906888E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C9E-3F4A-44A6-B0D7-47B2C9E5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D08-838B-4A08-A142-6C23B9D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3EC-30F3-4F68-A615-3EA08617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33C-0CF3-4923-A61C-6AD63CA0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C17-ABBF-4EB7-B1B6-25B9C24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1A7-3F3F-4B4A-AE76-112F80F8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97A7-55AE-42E2-AC14-EF669B18D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080" y="477720"/>
          <a:ext cx="8859600" cy="6270480"/>
        </p:xfrm>
        <a:graphic>
          <a:graphicData uri="http://schemas.openxmlformats.org/drawingml/2006/table">
            <a:tbl>
              <a:tblPr/>
              <a:tblGrid>
                <a:gridCol w="1299960"/>
                <a:gridCol w="904680"/>
                <a:gridCol w="208080"/>
                <a:gridCol w="769680"/>
                <a:gridCol w="1135080"/>
                <a:gridCol w="1301760"/>
                <a:gridCol w="862200"/>
                <a:gridCol w="733320"/>
                <a:gridCol w="208080"/>
                <a:gridCol w="143676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 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 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岁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必填，底色无限。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民 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 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 生 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入 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 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加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时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身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业技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职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健康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话号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身  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体  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婚姻状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11635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人特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7920" indent="-1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学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全日制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在职教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毕业院校系及专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原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拟调单位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1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2"/>
          <p:cNvSpPr/>
          <p:nvPr/>
        </p:nvSpPr>
        <p:spPr>
          <a:xfrm>
            <a:off x="179280" y="46080"/>
            <a:ext cx="8832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方正小标宋_GBK"/>
                <a:ea typeface="方正小标宋_GBK"/>
              </a:rPr>
              <a:t>个人基本情况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6560" y="692280"/>
          <a:ext cx="8196120" cy="5351400"/>
        </p:xfrm>
        <a:graphic>
          <a:graphicData uri="http://schemas.openxmlformats.org/drawingml/2006/table">
            <a:tbl>
              <a:tblPr/>
              <a:tblGrid>
                <a:gridCol w="636480"/>
                <a:gridCol w="706680"/>
                <a:gridCol w="946080"/>
                <a:gridCol w="1039680"/>
                <a:gridCol w="996840"/>
                <a:gridCol w="1055880"/>
                <a:gridCol w="2814480"/>
              </a:tblGrid>
              <a:tr h="431640">
                <a:tc rowSpan="9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情况（及在仲恺区工作的重要社会关系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称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生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政治面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籍贯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（学习）单位及职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住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本框 1"/>
          <p:cNvSpPr/>
          <p:nvPr/>
        </p:nvSpPr>
        <p:spPr>
          <a:xfrm>
            <a:off x="395280" y="6043680"/>
            <a:ext cx="829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本人承诺本表所填写的内容真实、准确，无弄虚作假。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承诺人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1:12:52Z</dcterms:created>
  <dc:creator>Tian</dc:creator>
  <dc:description/>
  <dc:language>en-US</dc:language>
  <cp:lastModifiedBy>Administrator</cp:lastModifiedBy>
  <dcterms:modified xsi:type="dcterms:W3CDTF">2021-05-20T03:49:2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9DE3B31119C46B49BC30753699B7FA5</vt:lpwstr>
  </property>
  <property fmtid="{D5CDD505-2E9C-101B-9397-08002B2CF9AE}" pid="3" name="KSOProductBuildVer">
    <vt:lpwstr>2052-11.1.0.10495</vt:lpwstr>
  </property>
</Properties>
</file>